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93C-C1C0-4901-A5A7-4F6E4800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C354-6D4B-4405-A59A-EE360BA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00D-5D5A-45DA-98DA-407F314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A89-A508-4FA8-8F8E-1078F329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2DA-B9A1-45D8-8B9A-DB168722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D14-A868-4CC3-9094-372F4BD7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B00-3345-417C-9401-0CF3A4DA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004-E0AB-4303-A0D4-3F8A2CE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3DB-A2F1-440C-888F-67125CD0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2A8-3025-483B-A56F-29D1EFB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723-547E-4D2A-B0CE-31870A6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DE1-5CC1-43C2-9DD8-271C547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0C7-2271-46A2-95F3-B60AB4452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13924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ическая энергия конденсато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объём пространства, занимаемое по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бычно пользуются объёмной плотностью энер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"/>
              <p:cNvSpPr txBox="1"/>
              <p:nvPr/>
            </p:nvSpPr>
            <p:spPr>
              <a:xfrm>
                <a:off x="2209680" y="2209680"/>
                <a:ext cx="491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3657600" y="4876920"/>
                <a:ext cx="15238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ри одинаковых заряда по 1 нКл каждый расположены по вершинам равностороннего треугольника. Какой отрицательный заряд нужно поместить в центр треугольника, чтобы сила притяжения с его стороны уравновесила силы взаимного отталкивания зарядов, находящихся в вершинах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086440" y="2057400"/>
            <a:ext cx="3875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1. Конденсатору, электроёмкость которого равна 10 пФ, сообщён заряд 1 пКл. Определить энергию конденса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2. Расстояние между пластинами плоского конденсатора равно 2 см, разность потенциалов 6 кВ. Заряд каждой пластины равен 10 нКл. Вычислить энергию поля конденсатора и силу взаимного притяжения пласт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Электростатика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занимается изучением электрических полей неподвижных зарядов. Прямая задача электростатики заключается в определении напряжённости поля при заданном распределении заря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Электродинамика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 изучает переменные во времени электромагнитные по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Электрическое поле 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– это вид материи, посредством которого осуществляется взаимодействие заряженных части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Monotype Corsiva"/>
              </a:rPr>
              <a:t>Электрический заряд </a:t>
            </a:r>
            <a:r>
              <a:rPr b="0" lang="ru-RU" sz="2700" spc="-1" strike="noStrike">
                <a:solidFill>
                  <a:srgbClr val="000000"/>
                </a:solidFill>
                <a:latin typeface="Monotype Corsiva"/>
              </a:rPr>
              <a:t>– это физическая величина, являющаяся источником электрического пол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ичество обладает двумя фундаментальными свойства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3" marL="288000" indent="-2880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уществует в двух видах – в виде положительного и отрицательного электриче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сохранения электрического заряда: Полный заряд системы не может измениться, если через её границу не проходят электрически заряженные частицы (или электрический заряд замкнутой системы есть величина постоянна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 Кул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сновным законом электростатики является </a:t>
            </a: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закон Кулона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, открытый им экспериментально в 1785 г. Он гласи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а взаимодействия двух неподвижных точечных зарядов в вакууме пропорциональна произведению их величин и обратно пропорциональна расстоянию между ними; направлена она вдоль прямой, соединяющей эти заряды и является силой притяжения, если заряды разноимённые, и силой отталкивания, если одноимён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ематическая формулировка закона Кул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Кулона сформулирован для неподвижных точечных заря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Г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"/>
              <p:cNvSpPr txBox="1"/>
              <p:nvPr/>
            </p:nvSpPr>
            <p:spPr>
              <a:xfrm>
                <a:off x="3657600" y="2895480"/>
                <a:ext cx="1843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3733920" y="4343400"/>
                <a:ext cx="120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3657600" y="5410080"/>
                <a:ext cx="1371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пряжённость электрического поля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– это сила, действующая на единичный неподвижный пробный электрический заря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ринцип суперпозиции электростатических полей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 Напряжённость электрического поля нескольких точечных зарядов равна геометрической сумме напряжённостей полей, которые создавал бы каждый из этих зарядов в отсутствие оста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4419720" y="1828800"/>
                <a:ext cx="7617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3657600" y="5562720"/>
                <a:ext cx="2035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орема Гаусс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Остроградского-Гаусс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ток вектора напряжённости электростатического поля через произвольную замкнутую поверхность равен алгебраической сумме зарядов, делённой н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3733920" y="3776760"/>
                <a:ext cx="18032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5334120" y="3124080"/>
                <a:ext cx="380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3733920" y="5334120"/>
                <a:ext cx="1666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орема Гаусса в дифференциальной фор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СГ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Если заряд расположен во внешнем пространстве по отношению к поверхности </a:t>
            </a:r>
            <a:r>
              <a:rPr b="0" lang="en-GB" sz="30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, то его поток через эту поверхность равен нул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еорема Гаусса является следствием закона Кул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"/>
              <p:cNvSpPr txBox="1"/>
              <p:nvPr/>
            </p:nvSpPr>
            <p:spPr>
              <a:xfrm>
                <a:off x="3505320" y="1981080"/>
                <a:ext cx="1523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2743200" y="3352680"/>
                <a:ext cx="327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q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v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π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Конденсатор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– это устройство, состоящее из двух металлических платин (обкладок), отделённых друг от друга слоем диэлектрика. В воздушном конденсаторе диэлектриком служит вакуум (т.о. название «воздушный» не вполне удачно). Конденсаторы предназначены для получения нужных величин электрической ёмкости и способны накапливать и отдавать электрические заря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Ёмкость конденсатора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– это величина, численно равная заряду, сообщение которого конденсатору увеличивает разность потенциалов между обкладками на единиц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81280" y="5562720"/>
                <a:ext cx="1947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20:02:52Z</dcterms:modified>
  <cp:revision>8</cp:revision>
  <dc:subject/>
  <dc:title>Слайд 1</dc:title>
</cp:coreProperties>
</file>